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1942-456F-470B-91C5-CBB374C92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AD8B-F095-4CB1-B0ED-55C7F6FA7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511A-801D-48A1-A231-77032B49B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CBD2-7E04-45F5-A541-BADF1C2F5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E415-DC98-4AA9-984A-F5D202D70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3166-4432-447D-9908-6E989CEC9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2506-F7FE-41A6-963B-1B153A6CC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63E0-3F82-4C39-B9A8-E75C046D5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CF09-EFF4-40EC-BEC8-E55DB0606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532F-4DB8-434E-8C24-0BA0B643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4884-28F3-4E06-AE60-65FA41A9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1867-0653-4DAE-AF73-A7BC1A47C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6AB42-FED4-428B-B803-57C04584A9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Your N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http://www.greece-athens.com/gallery_images/56.jpg"/>
          <p:cNvPicPr/>
          <p:nvPr/>
        </p:nvPicPr>
        <p:blipFill>
          <a:blip r:embed="rId1"/>
          <a:srcRect l="0" t="0" r="0" b="23196"/>
          <a:stretch/>
        </p:blipFill>
        <p:spPr>
          <a:xfrm>
            <a:off x="0" y="2112840"/>
            <a:ext cx="9144000" cy="4745160"/>
          </a:xfrm>
          <a:prstGeom prst="rect">
            <a:avLst/>
          </a:prstGeom>
          <a:ln w="0">
            <a:noFill/>
          </a:ln>
        </p:spPr>
      </p:pic>
      <p:pic>
        <p:nvPicPr>
          <p:cNvPr id="46" name="Rectangle 6" descr=""/>
          <p:cNvPicPr/>
          <p:nvPr/>
        </p:nvPicPr>
        <p:blipFill>
          <a:blip r:embed="rId2"/>
          <a:stretch/>
        </p:blipFill>
        <p:spPr>
          <a:xfrm>
            <a:off x="1432080" y="774720"/>
            <a:ext cx="466380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. w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600200" y="3048120"/>
            <a:ext cx="4952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ert Image or photo below the definition and delete this text box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poweruser</cp:lastModifiedBy>
  <dcterms:modified xsi:type="dcterms:W3CDTF">2012-03-02T17:18:48Z</dcterms:modified>
  <cp:revision>89</cp:revision>
  <dc:subject/>
  <dc:title>Ancient Greece</dc:title>
</cp:coreProperties>
</file>